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2.jpeg" ContentType="image/jpe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6804-6EA6-476F-B9BC-C6015FEC2C8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4174-54DF-4E32-A382-5BA1C559E10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A00F-9609-44DB-8CA1-733BEE40DFD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B0B7-D405-4099-B7A3-C0B4D5C23B6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7C28-E7F8-4E28-985B-7E9D67E8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499E-3F34-460E-B61D-E14AC330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6030-7E46-4DC2-8E4F-CFA6C410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872-2CF8-4999-8AFD-55ACF4108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FB60D-6A1A-44CE-B5A3-4EB51AE5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B5D57-BDAF-45CC-9FD7-3DEA3E87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826D7-95C6-4D5B-B67E-2AAEE351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C5AE0-E8E6-4FF8-A15D-37755D26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0285F-9587-47CC-A070-2880DD7D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7A690-9997-47BF-AC19-E34C0A3D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97D85-BE36-4547-A8F1-B361B8DA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CDB6-E8DF-48F5-A3E1-02DFFB4A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046BD-9AF8-44AD-AD86-7A0FFD30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89D88-7E99-4DE9-89F5-6CACA781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7863A-79FF-464D-804F-466F4112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CD07C-4DC7-4563-93A0-264F1C61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50EE5-3583-4748-8189-19FB504D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5C32-F230-4654-BAC7-6AC93472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EB44-A14D-4C17-98C7-017DB16D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D94-A342-4399-903B-B1756E60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E32-25F2-400E-9B2B-23802337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9E9B-E065-40F0-864C-C0C8F821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7C5-FA43-4DC9-9767-4E165E45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429-5AD9-4C7A-9640-B05AF9CA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6278-6815-4F87-BC45-3C28324FC2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7C34-B1C2-450A-AA0E-48C75DFFBC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148&amp;img_url=kirigor2005.narod.ru/1Jivopis/thumbnails/003jj.jpg&amp;rpt=simage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images.yandex.ru/yandsearch?ed=1&amp;text=&#1075;&#1086;&#1088;&#1086;&#1076;&#1089;&#1082;&#1086;&#1081;%20&#1087;&#1077;&#1081;&#1079;&#1072;&#1078;%20&#1074;%20&#1082;&#1072;&#1088;&#1090;&#1080;&#1085;&#1082;&#1072;&#1093;&amp;p=28&amp;img_url=z1.foto.rambler.ru/public/tagen/_photos/griboedo/griboedo-web.jpg&amp;rpt=simage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images.yandex.ru/yandsearch?ed=1&amp;text=&#1087;&#1077;&#1081;&#1079;&#1072;&#1078;%20&#1080;.&#1096;&#1080;&#1096;&#1082;&#1080;&#1085;&#1072;&amp;p=13&amp;img_url=www.belygorod.ru/img2/RusskieKartinki/Used/mshishkin_na_severe_dikom1.jpg&amp;rpt=simage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images.yandex.ru/yandsearch?isize=small&amp;text=&#1085;&#1072;&#1090;&#1102;&#1088;&#1084;&#1086;&#1088;&#1090;&#1099;%20&#1074;%20&#1075;&#1088;&#1072;&#1092;&#1080;&#1082;&#1077;&amp;p=93&amp;img_url=artnow.ru/img/381000/381970s.jpg&amp;rpt=simage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15" Type="http://schemas.openxmlformats.org/officeDocument/2006/relationships/image" Target="../media/image9.jpeg"/><Relationship Id="rId16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17" Type="http://schemas.openxmlformats.org/officeDocument/2006/relationships/image" Target="../media/image10.jpeg"/><Relationship Id="rId18" Type="http://schemas.openxmlformats.org/officeDocument/2006/relationships/hyperlink" Target="http://images.yandex.ru/yandsearch?ed=1&amp;text=&#1087;&#1086;&#1088;&#1090;&#1088;&#1077;&#1090;&#1099;%20&#1076;&#1077;&#1074;&#1086;&#1095;&#1082;&#1080;%20&#1089;%20&#1087;&#1077;&#1088;&#1089;&#1080;&#1082;&#1072;&#1084;&#1080;&amp;p=15&amp;img_url=intod.ru/obz10/ris2/image013.jpg&amp;rpt=simage" TargetMode="External"/><Relationship Id="rId19" Type="http://schemas.openxmlformats.org/officeDocument/2006/relationships/image" Target="../media/image11.jpeg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&amp;img_url=www.art-catalog.ru/data_picture_new/artist_19/picture/big_500/korovin_149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rpt=simage&amp;ed=1&amp;text=&#1085;&#1072;&#1090;&#1102;&#1088;&#1084;&#1086;&#1088;&#1090;&#1099;%20&#1080;.&#1075;&#1088;&#1072;&#1073;&#1072;&#1088;&#1103;&amp;p=18&amp;img_url=www.ljplus.ru/img4/c/h/chernyi_sterh6/leto_kartiny_06.jpg" TargetMode="External"/><Relationship Id="rId4" Type="http://schemas.openxmlformats.org/officeDocument/2006/relationships/image" Target="../media/image29.jpeg"/><Relationship Id="rId5" Type="http://schemas.openxmlformats.org/officeDocument/2006/relationships/hyperlink" Target="http://images.yandex.ru/yandsearch?rpt=simage&amp;img_url=s004.radikal.ru/i207/1002/75/dff539e03856.jpg&amp;ed=1&amp;text=&#1085;&#1072;&#1090;&#1102;&#1088;&#1084;&#1086;&#1088;&#1090;&#1099;%20&#1074;%20&#1087;&#1088;&#1086;&#1080;&#1079;&#1074;&#1077;&#1076;&#1077;&#1085;&#1080;&#1103;&#1093;%20&#1093;&#1091;&#1076;&#1086;&#1078;&#1085;&#1080;&#1082;&#1086;&#1074;&amp;p=7" TargetMode="External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80;&#1090;&#1077;&#1088;%20&#1082;&#1083;&#1072;&#1089;%20&#1085;&#1072;&#1090;&#1102;&#1088;&#1084;&#1086;&#1088;&#1090;&amp;rpt=simage&amp;img_url=i.family.booknik.ru/_img/255-244.jpg&amp;p=13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images.yandex.ru/yandsearch?rpt=simage&amp;text=&#1087;&#1080;&#1090;&#1077;&#1088;%20&#1082;&#1083;&#1072;&#1089;%20&#1085;&#1072;&#1090;&#1102;&#1088;&#1084;&#1086;&#1088;&#1090;&amp;p=42&amp;img_url=img0.liveinternet.ru/images/attach/b/3/20/393/20393896_Claesz_Pieter_ak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http://images.yandex.ru/yandsearch?text=&#1087;&#1086;&#1088;&#1090;&#1088;&#1077;&#1090;%20&#1075;&#1088;&#1072;&#1092;&#1072;%20&#1084;&#1091;&#1088;&#1072;&#1074;&#1100;&#1077;&#1074;&#1072;%20&#1093;&#1091;&#1076;&#1086;&#1078;&#1085;&#1080;&#1082;%20&#1084;&#1072;&#1082;&#1086;&#1074;&#1089;&#1082;&#1080;&#1081;&amp;p=1&amp;img_url=www.my-art.biz/uploads/posts/2009-12/1260738910_20-makovskijj-vladimir-egorovich.jpg&amp;rpt=simage" TargetMode="External"/><Relationship Id="rId3" Type="http://schemas.openxmlformats.org/officeDocument/2006/relationships/image" Target="../media/image35.jpeg"/><Relationship Id="rId4" Type="http://schemas.openxmlformats.org/officeDocument/2006/relationships/hyperlink" Target="http://images.yandex.ru/yandsearch?text=&#1087;&#1086;&#1088;&#1090;&#1088;&#1077;&#1090;%20&#1080;&#1084;&#1087;&#1077;&#1088;&#1072;&#1090;&#1088;&#1080;&#1094;&#1072;%20&#1084;&#1072;&#1088;&#1080;&#1080;%20&#1072;&#1083;&#1077;&#1082;&#1089;&#1072;&#1085;&#1076;&#1088;&#1086;&#1074;&#1085;&#1099;%20&#1093;&#1091;&#1076;&#1086;&#1078;&#1085;&#1080;&#1082;%20&#1084;&#1072;&#1082;&#1072;&#1088;&#1086;&#1074;&amp;p=9&amp;img_url=img1.liveinternet.ru/images/attach/c/0/30/259/30259714_2444131970094285158qTmszV_fs.jpg&amp;rpt=simage" TargetMode="External"/><Relationship Id="rId5" Type="http://schemas.openxmlformats.org/officeDocument/2006/relationships/image" Target="../media/image36.jpeg"/><Relationship Id="rId6" Type="http://schemas.openxmlformats.org/officeDocument/2006/relationships/hyperlink" Target="http://images.yandex.ru/yandsearch?rpt=simage&amp;text=&#1075;&#1088;&#1091;&#1087;&#1087;&#1086;&#1074;&#1086;&#1081;%20&#1087;&#1086;&#1088;&#1090;&#1088;&#1077;&#1090;%20&#1093;&#1091;&#1076;&#1086;&#1078;&#1085;&#1080;&#1082;%20&#1090;&#1088;&#1086;&#1087;&#1080;&#1085;&#1080;&#1085;&amp;p=2&amp;img_url=gellachara.files.wordpress.com/2010/08/174pinin_semeyptmorkovyxgtg.jpg" TargetMode="External"/><Relationship Id="rId7" Type="http://schemas.openxmlformats.org/officeDocument/2006/relationships/image" Target="../media/image37.jpeg"/><Relationship Id="rId8" Type="http://schemas.openxmlformats.org/officeDocument/2006/relationships/image" Target="../media/image11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2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3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4" Type="http://schemas.openxmlformats.org/officeDocument/2006/relationships/hyperlink" Target="http://images.yandex.ru/yandsearch?rpt=simage&amp;ed=1&amp;text=&#1087;&#1077;&#1081;&#1079;&#1072;&#1078;%20&#1080;.&#1096;&#1080;&#1096;&#1082;&#1080;&#1085;&#1072;&amp;p=113&amp;img_url=s56.radikal.ru/i151/0906/7b/fad3da96566b.jpg" TargetMode="External"/><Relationship Id="rId5" Type="http://schemas.openxmlformats.org/officeDocument/2006/relationships/hyperlink" Target="http://images.yandex.ru/yandsearch?ed=1&amp;text=&#1087;&#1077;&#1081;&#1079;&#1072;&#1078;%20&#1080;.&#1096;&#1080;&#1096;&#1082;&#1080;&#1085;&#1072;&amp;p=20&amp;img_url=www.zhaba.ru/_pics/yihbzqagmfwrkqbg.jpg&amp;rpt=simage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102;&#1086;&#1085;%20&#1080;&#1085;&#1076;&#1091;&#1089;&#1090;&#1088;&#1080;&#1072;&#1083;&#1100;&#1085;&#1099;&#1081;%20&#1087;&#1077;&#1081;&#1079;&#1072;&#1078;&amp;p=5&amp;img_url=www.mmt.su/a/?url=http%3A%2F%2Fbiography.sgu.ru%2Fbio%2Fdata%2Ffiles%2Fpictures%2Fimage%2F38783.jpg&amp;rpt=simage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images.yandex.ru/yandsearch?ed=1&amp;text=&#1078;&#1080;&#1074;&#1086;&#1087;&#1080;&#1089;&#1100;%20&#1074;&#1080;&#1076;&#1099;%20&#1082;&#1072;&#1079;&#1072;&#1085;&#1080;%20&#1074;%20&#1082;&#1072;&#1088;&#1090;&#1080;&#1085;&#1072;&#1093;%20&#1093;&#1091;&#1076;&#1086;&#1078;&#1085;&#1080;&#1082;&#1086;&#1074;&amp;p=6&amp;img_url=doseng.org/uploads/posts/2009-02/1233752620_44.jpg&amp;rpt=simage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img0.liveinternet.ru/images/attach/c/1/50/286/50286029_1256413875_Bezimeni2.jpg&amp;p=5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rpt=simage&amp;text=&#1089;&#1090;&#1074;&#1086;&#1083;%20&#1089;&#1090;&#1072;&#1088;&#1086;&#1075;&#1086;%20&#1076;&#1091;&#1073;&#1072;%20&#1092;.%20&#1074;&#1072;&#1089;&#1080;&#1083;&#1100;&#1077;&#1074;&amp;p=1&amp;img_url=www.art-catalog.ru/data_picture_new/artist_68/picture/big_500/fvasil_2.jpg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yandsearch?text=&#1082;&#1072;&#1084;&#1085;&#1080;%20&#1080;%20&#1089;&#1091;&#1096;&#1082;&#1072;%20&#1089;&#1077;&#1090;&#1077;&#1081;%20&#1092;.%20&#1074;&#1072;&#1089;&#1080;&#1083;&#1100;&#1077;&#1074;&amp;p=0&amp;img_url=2.bp.blogspot.com/_vYPIDwOMhm4/SAr_e7IeLfI/AAAAAAAALPA/ocwStW5yb-U/s320/Vasil%60ev_FA_031.jpg&amp;rpt=simage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images.yandex.ru/yandsearch?text=&#1087;&#1077;&#1081;&#1079;&#1072;&#1078;%20&#1082;&#1091;&#1080;&#1085;&#1076;&#1078;&#1080;&amp;rpt=simage&amp;img_url=www.russianartgallery.org/famous/images/kuinji_birches.jpg&amp;p=17" TargetMode="External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hyperlink" Target="http://images.yandex.ru/yandsearch?ed=1&amp;text=&#1087;&#1077;&#1081;&#1079;&#1072;&#1078;%20&#1089;&#1072;&#1074;&#1088;&#1072;&#1089;&#1086;&#1074;&amp;p=1&amp;img_url=zhurnal.lib.ru/img/s/shurygin_a_i/04aprel/grachi_prileteli.jpg&amp;rpt=simage" TargetMode="External"/><Relationship Id="rId6" Type="http://schemas.openxmlformats.org/officeDocument/2006/relationships/image" Target="../media/image25.jpeg"/><Relationship Id="rId7" Type="http://schemas.openxmlformats.org/officeDocument/2006/relationships/hyperlink" Target="http://images.yandex.ru/yandsearch?rpt=simage&amp;ed=1&amp;text=&#1087;&#1077;&#1081;&#1079;&#1072;&#1078;%20&#1080;.&#1096;&#1080;&#1096;&#1082;&#1080;&#1085;&#1072;&amp;p=45&amp;img_url=www.art-portrets.ru/art/shishkin_rozh.jpg" TargetMode="External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3" Type="http://schemas.openxmlformats.org/officeDocument/2006/relationships/image" Target="../media/image27.jpeg"/><Relationship Id="rId4" Type="http://schemas.openxmlformats.org/officeDocument/2006/relationships/hyperlink" Target="http://images.yandex.ru/yandsearch?ed=1&amp;text=&#1085;&#1072;&#1090;&#1102;&#1088;&#1084;&#1086;&#1088;&#1090;&#1099;%20&#1080;.&#1075;&#1088;&#1072;&#1073;&#1072;&#1088;&#1103;&amp;p=12&amp;img_url=naturmort.taba.ru/image/show_original/12684/image.jpg&amp;rpt=simage" TargetMode="External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В гостях</a:t>
            </a:r>
            <a:br>
              <a:rPr sz="5400"/>
            </a:br>
            <a:r>
              <a:rPr b="1" i="1" lang="ru-RU" sz="5400" spc="-1" strike="noStrike">
                <a:solidFill>
                  <a:srgbClr val="ffffff"/>
                </a:solidFill>
                <a:latin typeface="Tahoma"/>
              </a:rPr>
              <a:t> у жанров ИЗО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i-tmb-0x" descr="http://im8-tub.yandex.net/i?id=121298387-04-24"/>
          <p:cNvPicPr/>
          <p:nvPr/>
        </p:nvPicPr>
        <p:blipFill>
          <a:blip r:embed="rId1"/>
          <a:stretch/>
        </p:blipFill>
        <p:spPr>
          <a:xfrm>
            <a:off x="1857240" y="0"/>
            <a:ext cx="2714760" cy="17859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" descr="http://im8-tub.yandex.net/i?id=17728466-02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" descr="http://im7-tub.yandex.net/i?id=133867570-07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857240" cy="2500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7" descr="http://im7-tub.yandex.net/i?id=54598163-06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500200"/>
            <a:ext cx="185724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http://im2-tub.yandex.net/i?id=256021409-10-24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572000" y="0"/>
            <a:ext cx="2928960" cy="17859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" descr="http://im7-tub.yandex.net/i?id=96428151-02-24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500960" y="0"/>
            <a:ext cx="1643040" cy="2286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0" descr="http://im4-tub.yandex.net/i?id=42934500-08-24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9080" y="4786200"/>
            <a:ext cx="2286000" cy="2071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1" descr="http://im5-tub.yandex.net/i?id=111294348-04-24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00960" y="2286000"/>
            <a:ext cx="1643040" cy="25002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2" descr="http://im8-tub.yandex.net/i?id=217216773-11-24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286000" y="4786200"/>
            <a:ext cx="2143080" cy="20718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3" descr="http://im4-tub.yandex.net/i?id=132254116-22-24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715080" y="4786200"/>
            <a:ext cx="2428920" cy="20718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3" descr="http://im5-tub.yandex.net/i?id=111294348-04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2428920"/>
            <a:ext cx="1857240" cy="27147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785880" y="571680"/>
            <a:ext cx="757224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оме  неодушевлённых предметов (домашней утвари, музыкальных инструментов) в натюрморте могут изображаться объекты и живой природы (рыба на столе, цветы в вазе, фрукты и овощи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Коровин                           Поль Сезанн                               К.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синей            «Натюрморт с вазой»              «Неприбранный стол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аз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Рисунок 5" descr="http://im2-tub.yandex.net/i?id=134765201-0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43760" y="2500200"/>
            <a:ext cx="1877760" cy="2637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im2-tub.yandex.net/i?id=50094007-06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57720" y="3286080"/>
            <a:ext cx="2286000" cy="1825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714240" y="785880"/>
            <a:ext cx="757260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Завтрак с ветчин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итер Клас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музыкальным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нструмент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. Коров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Натюрморт с яблоками»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4" descr="http://im4-tub.yandex.net/i?id=18084497-08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357192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9" name="Рисунок 5" descr="http://im5-tub.yandex.net/i?id=71874583-20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4429080"/>
            <a:ext cx="228600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40" name="Рисунок 7" descr="http://im4-tub.yandex.net/i?id=21325654-19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00840" y="5000760"/>
            <a:ext cx="221436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41" name="Прямоугольник 5"/>
          <p:cNvSpPr/>
          <p:nvPr/>
        </p:nvSpPr>
        <p:spPr>
          <a:xfrm>
            <a:off x="428760" y="500040"/>
            <a:ext cx="8072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тюрморт бывает нескольких вид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декоративный натюрморт,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ывая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ящность и пышность, богатство и роскошь, - украшает интерьер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имволический натюрморт ,-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 изображением предметов-символов (свечей, часов, черепов и др.) несет в себе тайный смыс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 на 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ашку кофе на сто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морс в большом графин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розу в хрустал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бронзовую в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грушу, или торт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се предметы сраз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най, что это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натюрмор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http://im7-tub.yandex.net/i?id=96428151-02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3214800"/>
            <a:ext cx="2143080" cy="257148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6"/>
          <p:cNvSpPr/>
          <p:nvPr/>
        </p:nvSpPr>
        <p:spPr>
          <a:xfrm>
            <a:off x="714240" y="357120"/>
            <a:ext cx="7643880" cy="67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ПОРТР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франц. яз. portrait,  – изображать, передавать "черта в черту"), один из основных жанров  изобразительного искусства, изображение человека или группы людей, реально существующих либо существовавших в прошл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она Лиз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22160" y="213840"/>
            <a:ext cx="7772400" cy="300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функционального назначения и композиционных особенностей различают следующие виды портретов: погрудные и в полный рост, однофигурные и групповые,  парадные и костюмированные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428760" y="3143160"/>
            <a:ext cx="8358120" cy="40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Маковский                                          В.А.Тропинин                                            И.Репи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графа                                       «Семейный                                            « Портрет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.П.Муравьева»                                        портрет»                                           П.Третьякова»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buClr>
                <a:srgbClr val="ffffff"/>
              </a:buClr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К.Макаров                                                В.Сер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ортрет                                                «Девочка с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мператрицы                                             персикам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Мар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лександровн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http://img.yandex.net/i/search/z-images__mask.png"/>
          <p:cNvPicPr/>
          <p:nvPr/>
        </p:nvPicPr>
        <p:blipFill>
          <a:blip r:embed="rId1"/>
          <a:stretch/>
        </p:blipFill>
        <p:spPr>
          <a:xfrm>
            <a:off x="163440" y="-326880"/>
            <a:ext cx="495360" cy="6858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5" descr="http://im8-tub.yandex.net/i?id=36389026-20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442908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6" descr="http://im0-tub.yandex.net/i?id=68266035-01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143080" y="2928960"/>
            <a:ext cx="1500120" cy="19288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7" descr="http://im3-tub.yandex.net/i?id=7290362-02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43200" y="4429080"/>
            <a:ext cx="2000520" cy="19288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8" descr="http://im4-tub.yandex.net/i?id=132254116-22-24"/>
          <p:cNvPicPr/>
          <p:nvPr/>
        </p:nvPicPr>
        <p:blipFill>
          <a:blip r:embed="rId8"/>
          <a:stretch/>
        </p:blipFill>
        <p:spPr>
          <a:xfrm>
            <a:off x="5643720" y="2928960"/>
            <a:ext cx="1571400" cy="19288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9" descr="http://im7-tub.yandex.net/i?id=91689013-13-24"/>
          <p:cNvPicPr/>
          <p:nvPr/>
        </p:nvPicPr>
        <p:blipFill>
          <a:blip r:embed="rId9"/>
          <a:stretch/>
        </p:blipFill>
        <p:spPr>
          <a:xfrm>
            <a:off x="7215120" y="4429080"/>
            <a:ext cx="1571760" cy="2000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42640" y="356760"/>
            <a:ext cx="728676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ртрет, в котором художник изображает самого себя, называется –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втопортр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4929120" y="2214720"/>
            <a:ext cx="1928880" cy="25714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55" name="Рисунок 5" descr="http://im5-tub.yandex.net/i?id=33799739-07-24"/>
          <p:cNvPicPr/>
          <p:nvPr/>
        </p:nvPicPr>
        <p:blipFill>
          <a:blip r:embed="rId2"/>
          <a:stretch/>
        </p:blipFill>
        <p:spPr>
          <a:xfrm>
            <a:off x="1928880" y="2214720"/>
            <a:ext cx="1928880" cy="25714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56" name="Прямоугольник 6"/>
          <p:cNvSpPr/>
          <p:nvPr/>
        </p:nvSpPr>
        <p:spPr>
          <a:xfrm>
            <a:off x="1357200" y="478620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Леонардо да Винчи                              И.Э. Грабарь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втопортрет                                     Автопортре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i-tmb-0x" descr="http://im6-tub.yandex.net/i?id=56405085-21-24"/>
          <p:cNvPicPr/>
          <p:nvPr/>
        </p:nvPicPr>
        <p:blipFill>
          <a:blip r:embed="rId1"/>
          <a:stretch/>
        </p:blipFill>
        <p:spPr>
          <a:xfrm>
            <a:off x="4857840" y="2286000"/>
            <a:ext cx="2000160" cy="26431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4" descr="http://im8-tub.yandex.net/i?id=177990111-15-24"/>
          <p:cNvPicPr/>
          <p:nvPr/>
        </p:nvPicPr>
        <p:blipFill>
          <a:blip r:embed="rId2"/>
          <a:stretch/>
        </p:blipFill>
        <p:spPr>
          <a:xfrm>
            <a:off x="1928880" y="2286000"/>
            <a:ext cx="2000160" cy="26431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5"/>
          <p:cNvSpPr/>
          <p:nvPr/>
        </p:nvSpPr>
        <p:spPr>
          <a:xfrm>
            <a:off x="642960" y="642960"/>
            <a:ext cx="8001000" cy="50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ное качество портрета – сходство с оригиналом – обеспечивается точным изображением внешнего облика человек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Репин                                     К.Брюлл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Портрет жены»                       «Портрет Н.Гончаров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714240" y="357120"/>
            <a:ext cx="7772400" cy="557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что с  карти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мотрит кто-нибудь на нас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ринц в плаще старинном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в робе верхолаз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тчик или балер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Колька – твой сосед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Изображение художником самого себя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ортре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8400" y="499680"/>
            <a:ext cx="77864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удожники использовали и используют в своей работе самые различные художественные материалы (графитные карандаши, уголь, тушь, гуашь, акварельные и масляные краски), приемов и способов работы ими очень много, они сложны и разнообразны. Но в зависимости от того, что изображено на картине,  можно определить ее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изобразительном искусстве различают следующие жанры: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ортр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р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ряду с ними существуют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сторический , бытовой, батальный и анималистические жан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571320"/>
            <a:ext cx="8186760" cy="31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ПЕЙЗАЖА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(фран. слово paysage, от pays - местность), вид, изображение какой-либо местности; в живописи и в графике жанр изобразительного искусства, в котором основным предметом изображения является - природ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143160"/>
            <a:ext cx="300816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 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3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 u="sng">
                <a:solidFill>
                  <a:srgbClr val="ffff99"/>
                </a:solidFill>
                <a:uFillTx/>
                <a:latin typeface="Tahoma"/>
                <a:hlinkClick r:id="rId4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Рисунок 10" descr="http://im7-tub.yandex.net/i?id=45485502-18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57680" y="3286080"/>
            <a:ext cx="3429000" cy="25066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sp>
        <p:nvSpPr>
          <p:cNvPr id="105" name="Прямоугольник 6"/>
          <p:cNvSpPr/>
          <p:nvPr/>
        </p:nvSpPr>
        <p:spPr>
          <a:xfrm>
            <a:off x="2286000" y="5857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.И.Шишкин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Утро в сосновом бору»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86800" cy="207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что нарисовано на картине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пейзажи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ыв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сельски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ородскими,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архитектурными,  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индустриаль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3214800"/>
            <a:ext cx="89298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А.К.Саврас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Пейзаж с избушк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Неизвестный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Городской пейзаж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еизвестный  художни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Вид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Утро индустриальной Москв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Рисунок 6" descr="http://im3-tub.yandex.net/i?id=171093013-09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72160" y="4357800"/>
            <a:ext cx="2071800" cy="1571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09" name="Picture 8" descr="http://im2-tub.yandex.net/i?id=33502441-15-24"/>
          <p:cNvPicPr/>
          <p:nvPr/>
        </p:nvPicPr>
        <p:blipFill>
          <a:blip r:embed="rId3"/>
          <a:stretch/>
        </p:blipFill>
        <p:spPr>
          <a:xfrm>
            <a:off x="4572000" y="3214800"/>
            <a:ext cx="2125800" cy="171432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0" name="Рисунок 8" descr="http://im2-tub.yandex.net/i?id=256021409-10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71840" y="2428920"/>
            <a:ext cx="2143080" cy="1643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1" name="Рисунок 24" descr="http://im2-tub.yandex.net/i?id=233066117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2960" y="1643040"/>
            <a:ext cx="2071800" cy="15606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358120" cy="30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Морской пейзаж – марин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с итальян. marina,— морской) — один из видов пейзажа, объектом изображения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орого  является мор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оеобразную красоту то спокойного, то бурного моря изображал в своих работах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художник – маринист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ван Константинович Айвазовски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99680" y="2428920"/>
            <a:ext cx="82580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Девятый вал»                                                 «Константинопол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при  луне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Буря»                                                         «Ледяные горы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5" descr="http://im5-tub.yandex.net/i?id=70290179-03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928960"/>
            <a:ext cx="2428920" cy="18003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4214880" y="2857680"/>
            <a:ext cx="2500200" cy="1785600"/>
          </a:xfrm>
          <a:prstGeom prst="rect">
            <a:avLst/>
          </a:prstGeom>
          <a:ln w="2844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6" name="Picture 4" descr=""/>
          <p:cNvPicPr/>
          <p:nvPr/>
        </p:nvPicPr>
        <p:blipFill>
          <a:blip r:embed="rId4"/>
          <a:stretch/>
        </p:blipFill>
        <p:spPr>
          <a:xfrm>
            <a:off x="2071800" y="4429080"/>
            <a:ext cx="2381040" cy="178596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17" name="Picture 4" descr=""/>
          <p:cNvPicPr/>
          <p:nvPr/>
        </p:nvPicPr>
        <p:blipFill>
          <a:blip r:embed="rId5"/>
          <a:stretch/>
        </p:blipFill>
        <p:spPr>
          <a:xfrm>
            <a:off x="6114960" y="4254480"/>
            <a:ext cx="2565360" cy="20671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лементами пейзажа могут быть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071360"/>
            <a:ext cx="86868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емная поверхность (камни, песок, земля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тительность (деревья, кусты, цветы и трав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еловеческие постройки (домики, замки, избушки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спектива (уходящие вдаль дорога, тропинка, река и тд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доёмы (озера, моря, рек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лака, солнце, дожд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ff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Ф. Васильев                                                   Ф. Василье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Камни.  Сушка сетей»                                «Ствол старого дерева»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7" descr="http://im8-tub.yandex.net/i?id=66350458-00-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2928960"/>
            <a:ext cx="2286000" cy="278604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21" name="Рисунок 8" descr="http://im5-tub.yandex.net/i?id=235617758-13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4280" y="3571920"/>
            <a:ext cx="3000600" cy="214308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678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К.Ф.Юон                                          А.И.Куинджи</a:t>
            </a:r>
            <a:br>
              <a:rPr sz="2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«Мартовское солнце»                     «Солнечные пятна на инее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висимости от того, какое время года изобразил художник различают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зимний, весенний, осенний и летний пейзаж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И.И.Шишкин                                А.К.Саврасов                               А.И.Куинджи 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«Рожь»                                «Грачи прилетели»                     «Березовая роща»</a:t>
            </a:r>
            <a:br>
              <a:rPr sz="1400"/>
            </a:br>
            <a:r>
              <a:rPr b="0" i="1" lang="ru-RU" sz="14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br>
              <a:rPr sz="2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i-tmb-0x" descr="http://im2-tub.yandex.net/i?id=138078619-18-24"/>
          <p:cNvPicPr/>
          <p:nvPr/>
        </p:nvPicPr>
        <p:blipFill>
          <a:blip r:embed="rId1"/>
          <a:stretch/>
        </p:blipFill>
        <p:spPr>
          <a:xfrm>
            <a:off x="4857840" y="357120"/>
            <a:ext cx="2286000" cy="1576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4" name="Рисунок 3" descr="http://im0-tub.yandex.net/i?id=64283694-05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43760" y="4214880"/>
            <a:ext cx="2500200" cy="1703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5" name="i-tmb-0x" descr="http://im2-tub.yandex.net/i?id=256129581-09-24"/>
          <p:cNvPicPr/>
          <p:nvPr/>
        </p:nvPicPr>
        <p:blipFill>
          <a:blip r:embed="rId4"/>
          <a:stretch/>
        </p:blipFill>
        <p:spPr>
          <a:xfrm>
            <a:off x="1643040" y="357120"/>
            <a:ext cx="2235240" cy="15717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6" name="Рисунок 6" descr="http://im5-tub.yandex.net/i?id=89342257-20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920" y="3714840"/>
            <a:ext cx="1830240" cy="22143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127" name="Рисунок 8" descr="http://im4-tub.yandex.net/i?id=118490941-08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1680" y="4214880"/>
            <a:ext cx="2286000" cy="1731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14240" y="356760"/>
            <a:ext cx="7772400" cy="600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трольные вопро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)   Если видишь, на кар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рисована ре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ель и белый иней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ад и облак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снежная равнин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ли поле и шалаш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язательно карти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зывается   . .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)   Перечислите элементы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)  Перечислите разновидности пейзаж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4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)  Как называют художника изображающего мор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22160" y="642600"/>
            <a:ext cx="77724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500040" y="642960"/>
            <a:ext cx="7929720" cy="60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ЖАНР  НАТЮРМОР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Натюрмо́рт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с </a:t>
            </a:r>
            <a:r>
              <a:rPr b="0" lang="ru-RU" sz="2400" spc="-1" strike="noStrike" u="sng">
                <a:solidFill>
                  <a:srgbClr val="ffff99"/>
                </a:solidFill>
                <a:uFillTx/>
                <a:latin typeface="Tahoma"/>
                <a:hlinkClick r:id="rId1"/>
              </a:rPr>
              <a:t>фр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i="1" lang="fr-FR" sz="2400" spc="-1" strike="noStrike">
                <a:solidFill>
                  <a:srgbClr val="ffffff"/>
                </a:solidFill>
                <a:latin typeface="Tahoma"/>
              </a:rPr>
              <a:t>nature mort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 - «мёртвая натура»)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ожный и разнообразный жанр изобразительного искусства,  который посвящен изображению окружающих человека вещ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. Ван Гог  «Подсолнух»                      И. Э. Грабарь «Груши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Рисунок 8" descr="http://im7-tub.yandex.net/i?id=75802727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8840" y="3071880"/>
            <a:ext cx="207144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  <p:pic>
        <p:nvPicPr>
          <p:cNvPr id="132" name="Рисунок 9" descr="http://im6-tub.yandex.net/i?id=66595025-06-2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3071880"/>
            <a:ext cx="2000160" cy="2714400"/>
          </a:xfrm>
          <a:prstGeom prst="rect">
            <a:avLst/>
          </a:prstGeom>
          <a:ln w="28440">
            <a:solidFill>
              <a:srgbClr val="002060"/>
            </a:solidFill>
            <a:miter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1:31:07Z</dcterms:created>
  <dc:creator>Дрогунов Евгений Борисович</dc:creator>
  <dc:description/>
  <dc:language>en-US</dc:language>
  <cp:lastModifiedBy>Зуля</cp:lastModifiedBy>
  <dcterms:modified xsi:type="dcterms:W3CDTF">2011-03-14T05:00:16Z</dcterms:modified>
  <cp:revision>140</cp:revision>
  <dc:subject/>
  <dc:title>Слайд 1</dc:title>
</cp:coreProperties>
</file>